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2839-AEC8-4441-BD6D-922747610E97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4716-2927-43C4-90B2-0928950E0069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6714-E578-4E22-AC69-B82D75E61946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8DA6-EEF6-46FD-BC17-F3037FB34947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4914-063B-4E18-A8BE-B4A0B8B70439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7879-A1BD-4098-A681-A5B58BE06947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59F4-2D60-4FF7-943C-B0C833B86670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0A50-AE7C-427E-A317-CFE5DC4C12A0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B104-FD89-4F01-8E2A-A418AD09E59E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0B66-9F62-4A7C-9480-D510B1C43460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143E-67C7-4022-B9A8-D053FFAA1CE2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11D8-FD49-4B10-9628-8D2F7F7EE569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40BC3-08AA-4501-BFA3-3DA5ADAB5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0887F-72FA-4D96-87E1-183485FAE6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CD314-FBB5-480F-A1DB-6B9FBB966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386E4-0933-4CAF-9719-F9FEA9B214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05B63-090C-4B48-81C6-0D47EB56B8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AD9D-0CEF-4A8B-A499-F60FFFBA4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0137-E466-4032-A7BE-23E87B339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397DC-BAF8-4CBE-9CDB-E9326CA04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08C51-5ABD-46DB-BE19-73C5BA2E9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A94D4-9172-446C-97FB-44D509C50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86458-CB67-4680-A491-E8E08EB00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0121-CFD7-461F-B565-9B8564E97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2A45-9020-43A1-AEEB-B89BED3AA97A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6CC2-0974-4B05-A13C-4FE986E2712A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6000" spc="-1" strike="noStrike">
                <a:solidFill>
                  <a:srgbClr val="000000"/>
                </a:solidFill>
                <a:latin typeface="Arial"/>
              </a:rPr>
              <a:t>Reaccións de oxidación-reduc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g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oxídase a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C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56400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5364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6156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4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9500"/>
                            </p:stCondLst>
                            <p:childTnLst>
                              <p:par>
                                <p:cTn id="5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1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8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3500"/>
                            </p:stCondLst>
                            <p:childTnLst>
                              <p:par>
                                <p:cTn id="5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7500"/>
                            </p:stCondLst>
                            <p:childTnLst>
                              <p:par>
                                <p:cTn id="5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7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500"/>
                            </p:stCondLst>
                            <p:childTnLst>
                              <p:par>
                                <p:cTn id="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9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3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7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55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h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250920" y="4357800"/>
            <a:ext cx="590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284328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442764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9500"/>
                            </p:stCondLst>
                            <p:childTnLst>
                              <p:par>
                                <p:cTn id="6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1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8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3500"/>
                            </p:stCondLst>
                            <p:childTnLst>
                              <p:par>
                                <p:cTn id="6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2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7500"/>
                            </p:stCondLst>
                            <p:childTnLst>
                              <p:par>
                                <p:cTn id="6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500"/>
                            </p:stCondLst>
                            <p:childTnLst>
                              <p:par>
                                <p:cTn id="6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2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6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4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i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468360" y="15638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nitróx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320364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4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9500"/>
                            </p:stCondLst>
                            <p:childTnLst>
                              <p:par>
                                <p:cTn id="7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1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8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3500"/>
                            </p:stCondLst>
                            <p:childTnLst>
                              <p:par>
                                <p:cTn id="7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5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2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7500"/>
                            </p:stCondLst>
                            <p:childTnLst>
                              <p:par>
                                <p:cTn id="7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45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7500"/>
                            </p:stCondLst>
                            <p:childTnLst>
                              <p:par>
                                <p:cTn id="7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9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k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39640" y="1557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4284720" y="162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924360" y="1052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53820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45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9500"/>
                            </p:stCondLst>
                            <p:childTnLst>
                              <p:par>
                                <p:cTn id="8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8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3500"/>
                            </p:stCondLst>
                            <p:childTnLst>
                              <p:par>
                                <p:cTn id="8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5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5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3500"/>
                            </p:stCondLst>
                            <p:childTnLst>
                              <p:par>
                                <p:cTn id="8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75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500"/>
                            </p:stCondLst>
                            <p:childTnLst>
                              <p:par>
                                <p:cTn id="8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95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l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61128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572000" y="1557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6516720" y="105264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61128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4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15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8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3500"/>
                            </p:stCondLst>
                            <p:childTnLst>
                              <p:par>
                                <p:cTn id="9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55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50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3500"/>
                            </p:stCondLst>
                            <p:childTnLst>
                              <p:par>
                                <p:cTn id="9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75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7500"/>
                            </p:stCondLst>
                            <p:childTnLst>
                              <p:par>
                                <p:cTn id="9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9500"/>
                            </p:stCondLst>
                            <p:childTnLst>
                              <p:par>
                                <p:cTn id="94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1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29500"/>
                            </p:stCondLst>
                            <p:childTnLst>
                              <p:par>
                                <p:cTn id="9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m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4138560" y="2565360"/>
            <a:ext cx="172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l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3852720" y="2557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250920" y="4791240"/>
            <a:ext cx="655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-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971640" y="573408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0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n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+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68360" y="15638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630072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7020000" y="105264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995640" y="105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250920" y="47912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I + 8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4500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450072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4932360" y="105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645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6750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45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ñ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46836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85272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2916360" y="5734080"/>
            <a:ext cx="48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4788000" y="10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850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43500"/>
                            </p:stCondLst>
                            <p:childTnLst>
                              <p:par>
                                <p:cTn id="11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5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3500"/>
                            </p:stCondLst>
                            <p:childTnLst>
                              <p:par>
                                <p:cTn id="1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o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I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468360" y="15638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622764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7093080" y="105264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067280" y="1052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3203640" y="2565360"/>
            <a:ext cx="20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250920" y="43578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250920" y="4791240"/>
            <a:ext cx="576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971640" y="57340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KI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414036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442764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5003640" y="105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43500"/>
                            </p:stCondLst>
                            <p:childTnLst>
                              <p:par>
                                <p:cTn id="12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28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7500"/>
                            </p:stCondLst>
                            <p:childTnLst>
                              <p:par>
                                <p:cTn id="12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485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p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 + HCl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320364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Fe + 16 HCl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5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4572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3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8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43500"/>
                            </p:stCondLst>
                            <p:childTnLst>
                              <p:par>
                                <p:cTn id="13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2500"/>
                            </p:stCondLst>
                            <p:childTnLst>
                              <p:par>
                                <p:cTn id="13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.- Escribe a fórmula e indica o número de oxidación de cada elemento nos seguintes compostos ou ió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00000" y="1484280"/>
            <a:ext cx="6913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  Perclorato de calcio ou tetraoxoclorato (VII)  de calcio  Ca(Cl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Ca . . . 2,    Cl. . . -7,   O. . . -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2349360"/>
            <a:ext cx="734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ón carbonato ou ion trioxocarbonato (IV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C. . . 4, 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00000" y="3078000"/>
            <a:ext cx="8064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Nitrito de aluminio ou trioxonitrato (V) de alumin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l(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Al. . . 3,   N. . . -5,     O. . . -2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00000" y="4076640"/>
            <a:ext cx="7920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icromato de potasio ou heptaoxocromato ((VI) de potas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7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. . . 1,     Cr. . . 6,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900000" y="5013360"/>
            <a:ext cx="813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on permanganato ou ion tetraoxomanganato (VI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Mn. . . 7,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900000" y="5877000"/>
            <a:ext cx="8137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Hidróxido de ferro (II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Fe. . . 3,    O. . . -2,   H. . 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q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+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6227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243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4643280" y="105264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3203640" y="2565360"/>
            <a:ext cx="34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a 1ª por dez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17928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0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6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5148360" y="2565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250920" y="4791240"/>
            <a:ext cx="806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971640" y="573408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+ 6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4714920" y="31417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3492360" y="2565360"/>
            <a:ext cx="136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539640" y="34290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4714920" y="342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7"/>
          <p:cNvSpPr/>
          <p:nvPr/>
        </p:nvSpPr>
        <p:spPr>
          <a:xfrm>
            <a:off x="5867280" y="256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8"/>
          <p:cNvSpPr/>
          <p:nvPr/>
        </p:nvSpPr>
        <p:spPr>
          <a:xfrm>
            <a:off x="6732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0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5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4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40500"/>
                            </p:stCondLst>
                            <p:childTnLst>
                              <p:par>
                                <p:cTn id="15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r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457200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05928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cinco, e a 2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179280" y="4357800"/>
            <a:ext cx="896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363528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2"/>
          <p:cNvSpPr/>
          <p:nvPr/>
        </p:nvSpPr>
        <p:spPr>
          <a:xfrm>
            <a:off x="971640" y="5734080"/>
            <a:ext cx="691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 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Cl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4"/>
          <p:cNvSpPr/>
          <p:nvPr/>
        </p:nvSpPr>
        <p:spPr>
          <a:xfrm>
            <a:off x="550692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6"/>
          <p:cNvSpPr/>
          <p:nvPr/>
        </p:nvSpPr>
        <p:spPr>
          <a:xfrm>
            <a:off x="629928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7"/>
          <p:cNvSpPr/>
          <p:nvPr/>
        </p:nvSpPr>
        <p:spPr>
          <a:xfrm>
            <a:off x="4211640" y="1557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8"/>
          <p:cNvSpPr/>
          <p:nvPr/>
        </p:nvSpPr>
        <p:spPr>
          <a:xfrm>
            <a:off x="3924360" y="1046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8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39500"/>
                            </p:stCondLst>
                            <p:childTnLst>
                              <p:par>
                                <p:cTn id="15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5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48500"/>
                            </p:stCondLst>
                            <p:childTnLst>
                              <p:par>
                                <p:cTn id="15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5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5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3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3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63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36500"/>
                            </p:stCondLst>
                            <p:childTnLst>
                              <p:par>
                                <p:cTn id="16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O trioxonitrato (V) de hidróxeno reacciona co sulfuro de hidróxeno (gas) dando xofre e óxido de nitróxeno(II).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e e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95280" y="162720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4356000" y="1052640"/>
            <a:ext cx="43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  +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971640" y="206064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745080" y="1628640"/>
            <a:ext cx="51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395280" y="306864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oxídase a 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395280" y="2133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95280" y="2492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4572000" y="2492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7345440" y="162864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4392720" y="162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5327640" y="162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826920" y="350208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3132000" y="314172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250920" y="35719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9"/>
          <p:cNvSpPr/>
          <p:nvPr/>
        </p:nvSpPr>
        <p:spPr>
          <a:xfrm>
            <a:off x="4356000" y="36432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0"/>
          <p:cNvSpPr/>
          <p:nvPr/>
        </p:nvSpPr>
        <p:spPr>
          <a:xfrm>
            <a:off x="4716360" y="3139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1"/>
          <p:cNvSpPr/>
          <p:nvPr/>
        </p:nvSpPr>
        <p:spPr>
          <a:xfrm>
            <a:off x="5724360" y="3139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2"/>
          <p:cNvSpPr/>
          <p:nvPr/>
        </p:nvSpPr>
        <p:spPr>
          <a:xfrm>
            <a:off x="0" y="41482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dous  a 1ª semireacción e por tres a 2ª e súman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3"/>
          <p:cNvSpPr/>
          <p:nvPr/>
        </p:nvSpPr>
        <p:spPr>
          <a:xfrm>
            <a:off x="250920" y="457992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  +  3 S + 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4"/>
          <p:cNvSpPr/>
          <p:nvPr/>
        </p:nvSpPr>
        <p:spPr>
          <a:xfrm>
            <a:off x="250920" y="50846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324000" y="558972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3708360" y="6093000"/>
            <a:ext cx="475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0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6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8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5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8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43500"/>
                            </p:stCondLst>
                            <p:childTnLst>
                              <p:par>
                                <p:cTn id="16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9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9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7500"/>
                            </p:stCondLst>
                            <p:childTnLst>
                              <p:par>
                                <p:cTn id="16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2" dur="5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8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7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7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8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3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5" dur="5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3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5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505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7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  b) Calcula o volume de sulfuro de hidróxeno a 50ºC e 1atm de presión necesario para reaccionar con 100 ml dunha disolución de ácido nítrico de concentración 0,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1835280" y="1484280"/>
            <a:ext cx="55450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NO  +  3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ol           3 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0,01 mol    0,015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5"/>
              <p:cNvSpPr txBox="1"/>
              <p:nvPr/>
            </p:nvSpPr>
            <p:spPr>
              <a:xfrm>
                <a:off x="1523880" y="3197160"/>
                <a:ext cx="609624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t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3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97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0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4.-Dispós no laboratorio das seguintes especies químicas: Zn e Cu metais, trioxonitrato (V) de cinc, trioxonitrato (V) de cobre (II) e trioxonitrato (V) amónico. Constrúe con elas unha cela galvánica, indica os pasos a seguir. Sabendo qu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Cu) = 0,34V 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Zn) = -0,76V, ¿poderías predicir a voltaxe que subministraría a túa cel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863640" y="551664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684360" y="2205000"/>
            <a:ext cx="7920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Preparar 250cc de disolución 1M dos tres s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Nun vaso de pptdos introduciría a disolución do sal de Zn e o Zn metal, coidando que este sobresaia do líquido. Noutro vaso  faría o mesmo co C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Enchería un tubo en U coa sal amónica, taparía as súas bocas con algodón e inverteríao de maneira que cada boca resultase dentro de cada un dos vasos de pptdos ci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Conectaría con fío de cobre ambos metais. Con un galvanómetro no circuíto mediría a intensidade de corrente ou con un voltímetro comprobaría a volta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788000" y="5516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fill="hold">
                      <p:stCondLst>
                        <p:cond delay="0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76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5.-Realiza un esquema dunha pila na que participen os semipares 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Zn e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Cu. ¿Que tipo de especie química utilizarías para a construcción da ponte salina? Si os potenciais normais de ámbolos dous semipares son respectivamente -0,76V e 0,34V indica qué electrodo actuará como ánodo e cal como cáto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84360" y="234936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11280" y="3716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61128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nstruiría a ponte salina con o sal dun catión que non fora de cobre nin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684360" y="429264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ánodo é o electrodo no que ten lugar a oxidación, o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átodo é o electrodo no que ten lugar a reducción, o de c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6.-¿Que ocorrería se a unha disolución de sulfato de cobre (II) lle engadimos anacos de cinc? e ¿Que ocorrería se a unha disolución de sulfato de ferro (II) lle engadimos limaduras de cobre?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Cu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+0,34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76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11280" y="328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primeiro caso o cinc metálico é oxidado polo catión cobre. Ao ser maior o potencial de reducción do cobre, este é o que se redu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611280" y="438480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segundo caso o cobre metálico non é oxidado polo catión ferro. Ao ser menor o potencial de reducción do ferro que o do cobre, o ferro non pode reducirse a costa de oxidar ao cobre m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0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7.-Trátase unha barra de ferro con HCl ¿Oxídarase a F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? . En caso afirmativo escribir a reacción red-ox que ten lugar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539640" y="2637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potencial de reducción do hidróxeno é 0 &gt; -0,44 polo tanto que se reduce é o hidróxeno, e o ferro oxídas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611280" y="3716280"/>
            <a:ext cx="74898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redox será a suma das semireaccións de reducción e de 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en forma molecular res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0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8.-Realiza o esquema dunha cela na que ten lugar a descomposición electrolítica da auga. Indica a natureza dos gases xerados no ánodo e no cátodo.Calcula o volume de H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edido en c.n. que se obtén ao paso de 1F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39640" y="3789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1 mol (=22,4l)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96500C desprenden medio mol 11,2 litros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9"/>
          <p:cNvGrpSpPr/>
          <p:nvPr/>
        </p:nvGrpSpPr>
        <p:grpSpPr>
          <a:xfrm>
            <a:off x="468360" y="1916280"/>
            <a:ext cx="7489800" cy="1315080"/>
            <a:chOff x="468360" y="1916280"/>
            <a:chExt cx="7489800" cy="1315080"/>
          </a:xfrm>
        </p:grpSpPr>
        <p:sp>
          <p:nvSpPr>
            <p:cNvPr id="510" name="Text Box 3"/>
            <p:cNvSpPr/>
            <p:nvPr/>
          </p:nvSpPr>
          <p:spPr>
            <a:xfrm>
              <a:off x="468360" y="1916280"/>
              <a:ext cx="748980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ÁNODO    Oxidación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+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CÁTODO  Reducción: 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Reacción 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5"/>
            <p:cNvSpPr/>
            <p:nvPr/>
          </p:nvSpPr>
          <p:spPr>
            <a:xfrm flipV="1">
              <a:off x="4284720" y="1916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6"/>
            <p:cNvSpPr/>
            <p:nvPr/>
          </p:nvSpPr>
          <p:spPr>
            <a:xfrm flipV="1">
              <a:off x="5003640" y="2349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 flipV="1">
              <a:off x="471636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8"/>
            <p:cNvSpPr/>
            <p:nvPr/>
          </p:nvSpPr>
          <p:spPr>
            <a:xfrm flipV="1">
              <a:off x="399564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4" dur="indefinite" restart="never" nodeType="tmRoot">
          <p:childTnLst>
            <p:seq>
              <p:cTn id="1815" dur="indefinite" nodeType="mainSeq">
                <p:childTnLst>
                  <p:par>
                    <p:cTn id="1816" fill="hold">
                      <p:stCondLst>
                        <p:cond delay="0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9.-Das seguintes ecuacións químicas indica cal é un proceso red-ox, e nel que se oxida, que se reduce, quen é o oxidante e cal 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539640" y="378936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loro redúcese a cloruro (diminúe o nº de 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bromuro oxídase a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oxidante é o cloro, capaz de oxidar ao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reductor é o bromuro xa que reduce a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539640" y="1773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Br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B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V="1">
            <a:off x="2771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4" dur="indefinite" restart="never" nodeType="tmRoot">
          <p:childTnLst>
            <p:seq>
              <p:cTn id="1825" dur="indefinite" nodeType="mainSeq">
                <p:childTnLst>
                  <p:par>
                    <p:cTn id="1826" fill="hold">
                      <p:stCondLst>
                        <p:cond delay="0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17600"/>
            <a:ext cx="91440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-Axusta polo método do ión-electrón, as seguintes ecua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4720" y="1196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27640" y="2649600"/>
            <a:ext cx="37432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356000" y="3429000"/>
            <a:ext cx="47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635280" y="4437000"/>
            <a:ext cx="5508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95280" y="27082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osíxeno engadindo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95280" y="170028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grupo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S libre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5003640" y="177336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95280" y="3429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hidróxeno con 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95280" y="4437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nse as cargas con 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95280" y="537372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icamos por un nú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al que iguale os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635280" y="5373720"/>
            <a:ext cx="50054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0.-Comenta as seguintes afirmacións indicando , de forma razoada, se che parecen correctas ou corrixíndoas no seu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468360" y="300348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Condicións estándar referidas a unha cela electroquímica, implican sempre concentracións 1M para especies iónicas en di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539640" y="1773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Nunha cela electroquímica a oxidación ten sempre lugar no án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468360" y="46594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Toda reacción red-ox que en condicións estándar transcorren espontaneamente, presenta unha Eº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1187280" y="2133720"/>
            <a:ext cx="74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ánodo da cela os anións A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º  oxída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1258920" y="3860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 especies iónicas en disolución son mais que as que entran no proceso red-ox, o enunciado non é corr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1258920" y="5300640"/>
            <a:ext cx="7489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pil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n espontáneas aquelas reaccións nas que E &gt; 0, así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&lt; 0, que é  a condición de espontane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0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37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40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4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4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1.-Contesta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Podemos utilizar calquera reacción redox de forma controlada como unha pila electroquímica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a fem dunha pila cando o proceso químico está en situación de equilibrio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teñen en común as pilas e as electrólises?¿En que se diferencian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G nunha electrólise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reacción ten lugar no cátodo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Para un oxidante concreto a cantidade de materia que representa un equivalente gramo. ¿Ten sempre un valor úni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468360" y="2565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eq. F.e.m.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324000" y="14130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mpre qu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xa distinto d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611280" y="3500280"/>
            <a:ext cx="79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mun: poseer ánodo e catodo. A enerxía manifestase en forma eléc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iferencia: Na polaridade dos electrodos e no signo de ∆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755640" y="465300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684360" y="5300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catodo ten lugar a 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755640" y="6308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,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,  ou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aría o valor do equivalente gr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fill="hold">
                      <p:stCondLst>
                        <p:cond delay="0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49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2.-Considera os seguintes potenciais estándar de reducción Eº(Cl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Cl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1,36V  ;  Eº(I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0,52V. Indica razoadamente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das especies químicas presenta maior poder oxidante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é a mais reductora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será o proceso red-ox que en condicións estándar, poderá ter lug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684360" y="25574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mais reductor é o 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684360" y="140652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mais oxidante é 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755640" y="429264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½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½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0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7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2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4.-Dada a pila   Cu(s)   +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(aq)    </a:t>
            </a:r>
            <a:r>
              <a:rPr b="1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 + 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Eº= -0,19V na que tanto productos como reactivos están en condicións estándar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Calcula a variación da enerxía libre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Determina se a reacción é espontánea de esquerda a dereita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reducción do cinc introducido nunha disolución 0,01M de sulfato de cinc (Eº = -0,76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39640" y="2878200"/>
            <a:ext cx="7489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= 2 x 96500 x 0,19 = 36670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539640" y="35258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&gt; 0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 pila non é espo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539640" y="42465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   Zn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2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8"/>
              <p:cNvSpPr txBox="1"/>
              <p:nvPr/>
            </p:nvSpPr>
            <p:spPr>
              <a:xfrm>
                <a:off x="826920" y="4678200"/>
                <a:ext cx="7704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n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,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98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5.-Dada a pila  Mg / 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  //   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/ Ag . Cos datos   Eº (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Mg)= -2,37V e Eº(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Ag)=0,8V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ir as semireaccións correspondentes aos dous electrodos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Escribir a reacción global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cada electrodo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d) Calcula a f.e.m. da p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466560" y="2205000"/>
            <a:ext cx="74901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Ánodo, oxidación:   Mg (s)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átodo, reducción:  Ag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 1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468360" y="30686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g  + 2 A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Ag  +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468360" y="342900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6"/>
              <p:cNvSpPr txBox="1"/>
              <p:nvPr/>
            </p:nvSpPr>
            <p:spPr>
              <a:xfrm>
                <a:off x="1116000" y="3357720"/>
                <a:ext cx="7920000" cy="28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át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án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g</m:t>
                                        </m:r>
                                      </m:e>
                                      <m:sup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7" name="Text Box 7"/>
          <p:cNvSpPr/>
          <p:nvPr/>
        </p:nvSpPr>
        <p:spPr>
          <a:xfrm>
            <a:off x="468360" y="573408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6.-Calcula o peso equivalente dos oxidantes nos seguintes proces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9528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) Dicromato potásico cando se reduce a Cr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95280" y="27082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) Permanganato potásico cando se reduce a Mn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395280" y="3933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) Ácido nítrico cando se reduc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971640" y="213372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6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7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971640" y="314172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755640" y="32446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826920" y="4508640"/>
            <a:ext cx="669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   +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0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7.- Ao efectuarse a electrólise dunha disolución de ácido clorhídrico despréndese cloro no ánodo. ¿Que volume de cloro a 1atm se desprenderá ó pasar unha corrente de 10 A durante unha ho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95280" y="1844640"/>
            <a:ext cx="799308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Cl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un mol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x 96.500 C  desprenden 22´4 litros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carga da que se dispón é: Q = I.t = 10 A . 1h  =  10C/s .3600s  = 3600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desprenderá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6"/>
              <p:cNvSpPr txBox="1"/>
              <p:nvPr/>
            </p:nvSpPr>
            <p:spPr>
              <a:xfrm>
                <a:off x="2556000" y="3716280"/>
                <a:ext cx="3240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00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´</m:t>
                    </m:r>
                    <m:r>
                      <m:t xml:space="preserve">1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6" dur="indefinite" restart="never" nodeType="tmRoot">
          <p:childTnLst>
            <p:seq>
              <p:cTn id="1937" dur="indefinite" nodeType="mainSeq">
                <p:childTnLst>
                  <p:par>
                    <p:cTn id="1938" fill="hold">
                      <p:stCondLst>
                        <p:cond delay="0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4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8.-Temos dúas vasillas, unha contendo unha disolución de nitrato de prata e outra con ácido sulfúrico diluído. Ao pasar a corrente eléctrica simultaneamente a través de ámbalas dúas disolucións, na 1ª se depositan 0,093 g de prata e na segunda se desprenden 9´6ml de hidróxeno, medidos en condicións normais. ¿Cal é a masa atómica da pr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( x g)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5292720" y="2381400"/>
            <a:ext cx="3456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 desprenden 22´4 li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7"/>
              <p:cNvSpPr txBox="1"/>
              <p:nvPr/>
            </p:nvSpPr>
            <p:spPr>
              <a:xfrm>
                <a:off x="1763640" y="3429000"/>
                <a:ext cx="5602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Text Box 9"/>
          <p:cNvSpPr/>
          <p:nvPr/>
        </p:nvSpPr>
        <p:spPr>
          <a:xfrm>
            <a:off x="684360" y="4724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abendo que 8´6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oles de prata son 0´093 gramos, deducimos que a masa de un mol será 108´5 g de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7" dur="indefinite" restart="never" nodeType="tmRoot">
          <p:childTnLst>
            <p:seq>
              <p:cTn id="1958" dur="indefinite" nodeType="mainSeq">
                <p:childTnLst>
                  <p:par>
                    <p:cTn id="1959" fill="hold">
                      <p:stCondLst>
                        <p:cond delay="0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9.-Vaise a pratear electroquimicamente unha superficie metálica de 12,5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ata conseguir un recubrimento de 1mm de grosor, utilizando unha corrente de 0,5A. A densidade da prata é 10,5 g/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e a súa masa atómica 108. Calcular: a cantidade de electricidade nec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3635280" y="2381400"/>
            <a:ext cx="511344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2,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x1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 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.10,5. 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g/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3,12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0,12 m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= 0,1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Q/I = 0,12. 96500C / 0,5A = 2316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6h 26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418680"/>
            <a:ext cx="9144000" cy="10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0.-Na electrólise dunha sal de ouro descoñecida obtivéronse 3,09 g de ouro facendo pasar 4550C. ¿Cal é o equivalente do ouro nesa s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5"/>
              <p:cNvSpPr txBox="1"/>
              <p:nvPr/>
            </p:nvSpPr>
            <p:spPr>
              <a:xfrm>
                <a:off x="1523880" y="2425680"/>
                <a:ext cx="6096240" cy="28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6</m:t>
                        </m:r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550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7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m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Axusta 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1640" y="764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5280" y="213372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0" y="17002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395280" y="3429000"/>
            <a:ext cx="68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395280" y="400536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1116000" y="5373720"/>
            <a:ext cx="525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0" y="30621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implifícase a ecuación ió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0" y="4869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edúcese a ecuación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b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539640" y="32907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catro  a 2ª semireacción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250920" y="42260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250920" y="473076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9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c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539640" y="3141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oito, e á 1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250920" y="435780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6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9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d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O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659640" y="1058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132000" y="2571840"/>
            <a:ext cx="511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39640" y="2925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490920" y="256536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oito, e á 2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NO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500720" y="2924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5867280" y="2565360"/>
            <a:ext cx="11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539640" y="3284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6948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8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3500"/>
                            </p:stCondLst>
                            <p:childTnLst>
                              <p:par>
                                <p:cTn id="2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2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7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9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4500"/>
                            </p:stCondLst>
                            <p:childTnLst>
                              <p:par>
                                <p:cTn id="3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6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8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6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9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e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10573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348000" y="10587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443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3851280" y="2565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250920" y="479124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971640" y="5734080"/>
            <a:ext cx="748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6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9500"/>
                            </p:stCondLst>
                            <p:childTnLst>
                              <p:par>
                                <p:cTn id="3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8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2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7500"/>
                            </p:stCondLst>
                            <p:childTnLst>
                              <p:par>
                                <p:cTn id="3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f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+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+ 8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95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1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8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3500"/>
                            </p:stCondLst>
                            <p:childTnLst>
                              <p:par>
                                <p:cTn id="4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5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2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7500"/>
                            </p:stCondLst>
                            <p:childTnLst>
                              <p:par>
                                <p:cTn id="4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500"/>
                            </p:stCondLst>
                            <p:childTnLst>
                              <p:par>
                                <p:cTn id="4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9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PROFESORADO</cp:lastModifiedBy>
  <dcterms:modified xsi:type="dcterms:W3CDTF">2012-12-05T12:34:40Z</dcterms:modified>
  <cp:revision>33</cp:revision>
  <dc:subject/>
  <dc:title>Reaccións de oxidación reducción</dc:title>
</cp:coreProperties>
</file>